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972800" cy="10972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12A-2BA5-4100-81A8-385F698F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932832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2240" y="6608520"/>
            <a:ext cx="932832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8455-21A7-4AD1-8E55-574FC384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224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232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58D-BB3B-4814-9296-2C380300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6200" y="316980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30160" y="316980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2240" y="660852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6200" y="660852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30160" y="6608520"/>
            <a:ext cx="300348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3972-5474-42EA-9328-8DBB1325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2240" y="3169800"/>
            <a:ext cx="9328320" cy="65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5E4-97E9-47D2-B0E9-4997CEA2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932832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DEC-C4CE-44E5-BD78-E85BE110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F31-1B6D-4B63-8B09-20BAFE0B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6B6-ED5F-4964-87B0-A0F8CC86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2240" y="974880"/>
            <a:ext cx="932832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F461-6F67-4671-BD6A-64FC2157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224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832-F91B-4183-99A3-F2B44414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2320" y="660852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B0BF-C5D7-46C6-8614-96C4F40E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24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2320" y="3169800"/>
            <a:ext cx="455220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2240" y="6608520"/>
            <a:ext cx="9328320" cy="31399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6E8-8AEC-4EF1-A208-BE3E3F59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2240" y="974880"/>
            <a:ext cx="9328320" cy="182880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ctr">
            <a:noAutofit/>
          </a:bodyPr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2240" y="3169800"/>
            <a:ext cx="9328320" cy="658332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rmAutofit/>
          </a:bodyPr>
          <a:p>
            <a:pPr marL="469800" indent="-4698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19160" indent="-3920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566720" indent="-312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2193840" indent="-31248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820960" indent="-312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2820960" indent="-312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2820960" indent="-31284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2240" y="9997560"/>
            <a:ext cx="2286000" cy="73044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Autofit/>
          </a:bodyPr>
          <a:lstStyle>
            <a:lvl1pPr indent="0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9997560"/>
            <a:ext cx="3473280" cy="73044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Autofit/>
          </a:bodyPr>
          <a:lstStyle>
            <a:lvl1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9997560"/>
            <a:ext cx="2286000" cy="730440"/>
          </a:xfrm>
          <a:prstGeom prst="rect">
            <a:avLst/>
          </a:prstGeom>
          <a:noFill/>
          <a:ln w="0">
            <a:noFill/>
          </a:ln>
        </p:spPr>
        <p:txBody>
          <a:bodyPr lIns="125280" rIns="125280" tIns="62640" bIns="62640" anchor="t">
            <a:noAutofit/>
          </a:bodyPr>
          <a:lstStyle>
            <a:lvl1pPr indent="0" algn="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  <a:defRPr b="0" lang="en-US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54240"/>
                <a:tab algn="l" pos="2508120"/>
                <a:tab algn="l" pos="3762360"/>
                <a:tab algn="l" pos="5016600"/>
                <a:tab algn="l" pos="6270480"/>
                <a:tab algn="l" pos="7524720"/>
                <a:tab algn="l" pos="8778960"/>
                <a:tab algn="l" pos="10032840"/>
              </a:tabLst>
            </a:pPr>
            <a:fld id="{F0B0847F-01CC-4EBB-BD2F-0474CBD394F9}" type="slidenum">
              <a:rPr b="0" lang="en-US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111480"/>
            <a:ext cx="10683720" cy="7861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 rot="18900000">
            <a:off x="7762680" y="-650880"/>
            <a:ext cx="228600" cy="725832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7258320"/>
              <a:gd name="textAreaBottom" fmla="*/ 7224840 h 7258320"/>
            </a:gdLst>
            <a:ahLst/>
            <a:rect l="textAreaLeft" t="textAreaTop" r="textAreaRight" b="textAreaBottom"/>
            <a:pathLst>
              <a:path w="21600" h="684781">
                <a:moveTo>
                  <a:pt x="10800" y="0"/>
                </a:moveTo>
                <a:arcTo wR="10800" hR="10800" stAng="16200000" swAng="-5400000"/>
                <a:lnTo>
                  <a:pt x="0" y="673981"/>
                </a:lnTo>
                <a:arcTo wR="10800" hR="10800" stAng="10800000" swAng="-5400000"/>
                <a:lnTo>
                  <a:pt x="10800" y="68478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 rot="18900000">
            <a:off x="6339240" y="564120"/>
            <a:ext cx="228600" cy="58212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5821200"/>
              <a:gd name="textAreaBottom" fmla="*/ 5787720 h 5821200"/>
            </a:gdLst>
            <a:ahLst/>
            <a:rect l="textAreaLeft" t="textAreaTop" r="textAreaRight" b="textAreaBottom"/>
            <a:pathLst>
              <a:path w="21600" h="549204">
                <a:moveTo>
                  <a:pt x="10800" y="0"/>
                </a:moveTo>
                <a:arcTo wR="10800" hR="10800" stAng="16200000" swAng="-5400000"/>
                <a:lnTo>
                  <a:pt x="0" y="538404"/>
                </a:lnTo>
                <a:arcTo wR="10800" hR="10800" stAng="10800000" swAng="-5400000"/>
                <a:lnTo>
                  <a:pt x="10800" y="54920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rot="18900000">
            <a:off x="4701960" y="1773000"/>
            <a:ext cx="228600" cy="392796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3927960"/>
              <a:gd name="textAreaBottom" fmla="*/ 3894480 h 3927960"/>
            </a:gdLst>
            <a:ahLst/>
            <a:rect l="textAreaLeft" t="textAreaTop" r="textAreaRight" b="textAreaBottom"/>
            <a:pathLst>
              <a:path w="21600" h="370596">
                <a:moveTo>
                  <a:pt x="10800" y="0"/>
                </a:moveTo>
                <a:arcTo wR="10800" hR="10800" stAng="16200000" swAng="-5400000"/>
                <a:lnTo>
                  <a:pt x="0" y="359796"/>
                </a:lnTo>
                <a:arcTo wR="10800" hR="10800" stAng="10800000" swAng="-5400000"/>
                <a:lnTo>
                  <a:pt x="10800" y="3705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 rot="2700000">
            <a:off x="4777200" y="4028760"/>
            <a:ext cx="228600" cy="171252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1712520"/>
              <a:gd name="textAreaBottom" fmla="*/ 1679040 h 1712520"/>
            </a:gdLst>
            <a:ahLst/>
            <a:rect l="textAreaLeft" t="textAreaTop" r="textAreaRight" b="textAreaBottom"/>
            <a:pathLst>
              <a:path w="21600" h="161592">
                <a:moveTo>
                  <a:pt x="10800" y="0"/>
                </a:moveTo>
                <a:arcTo wR="10800" hR="10800" stAng="16200000" swAng="-5400000"/>
                <a:lnTo>
                  <a:pt x="0" y="150792"/>
                </a:lnTo>
                <a:arcTo wR="10800" hR="10800" stAng="10800000" swAng="-5400000"/>
                <a:lnTo>
                  <a:pt x="10800" y="16159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 rot="2700000">
            <a:off x="2827800" y="-609480"/>
            <a:ext cx="228600" cy="70848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7084800"/>
              <a:gd name="textAreaBottom" fmla="*/ 7051320 h 7084800"/>
            </a:gdLst>
            <a:ahLst/>
            <a:rect l="textAreaLeft" t="textAreaTop" r="textAreaRight" b="textAreaBottom"/>
            <a:pathLst>
              <a:path w="21600" h="668411">
                <a:moveTo>
                  <a:pt x="10800" y="0"/>
                </a:moveTo>
                <a:arcTo wR="10800" hR="10800" stAng="16200000" swAng="-5400000"/>
                <a:lnTo>
                  <a:pt x="0" y="657611"/>
                </a:lnTo>
                <a:arcTo wR="10800" hR="10800" stAng="10800000" swAng="-5400000"/>
                <a:lnTo>
                  <a:pt x="10800" y="6684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rot="2700000">
            <a:off x="3299760" y="2895120"/>
            <a:ext cx="228600" cy="310068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3100680"/>
              <a:gd name="textAreaBottom" fmla="*/ 3067200 h 3100680"/>
            </a:gdLst>
            <a:ahLst/>
            <a:rect l="textAreaLeft" t="textAreaTop" r="textAreaRight" b="textAreaBottom"/>
            <a:pathLst>
              <a:path w="21600" h="292551">
                <a:moveTo>
                  <a:pt x="10800" y="0"/>
                </a:moveTo>
                <a:arcTo wR="10800" hR="10800" stAng="16200000" swAng="-5400000"/>
                <a:lnTo>
                  <a:pt x="0" y="281751"/>
                </a:lnTo>
                <a:arcTo wR="10800" hR="10800" stAng="10800000" swAng="-5400000"/>
                <a:lnTo>
                  <a:pt x="10800" y="29255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700000">
            <a:off x="7214760" y="2687040"/>
            <a:ext cx="34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b4"/>
                </a:solidFill>
                <a:latin typeface="Geneva"/>
              </a:rPr>
              <a:t>Tools f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700000">
            <a:off x="4465440" y="2579040"/>
            <a:ext cx="502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6b08"/>
                </a:solidFill>
                <a:latin typeface="Geneva"/>
              </a:rPr>
              <a:t>Evolution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700000">
            <a:off x="3776760" y="2803320"/>
            <a:ext cx="302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Geneva"/>
              </a:rPr>
              <a:t>Biolog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686800" y="8839080"/>
            <a:ext cx="2209680" cy="2060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66560" y="8763120"/>
            <a:ext cx="6863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323232"/>
                </a:solidFill>
                <a:latin typeface="Arial"/>
              </a:rPr>
              <a:t>Hackathon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04:33:58Z</dcterms:created>
  <dc:creator>GMOD / NESCent</dc:creator>
  <dc:description/>
  <dc:language>en-US</dc:language>
  <cp:lastModifiedBy>GMOD / NESCent</cp:lastModifiedBy>
  <dcterms:modified xsi:type="dcterms:W3CDTF">2010-06-22T22:08:14Z</dcterms:modified>
  <cp:revision>14</cp:revision>
  <dc:subject/>
  <dc:title>PowerPoint Presentation</dc:title>
</cp:coreProperties>
</file>